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6.jpeg" ContentType="image/jpeg"/>
  <Override PartName="/ppt/media/image15.png" ContentType="image/png"/>
  <Override PartName="/ppt/media/image1.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953E-6663-4AA6-B878-C1792403D9E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8820-F844-4BBD-8515-6C5FF7D9F9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F46C-B353-4E4F-AB03-FF99C0DE647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F9B1-C479-41A1-AB58-4029341828F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9710-9F40-46FF-A2B7-FDD92F70A48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5614-D0EA-4CCE-82F4-D15289AF7B7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1E36-F27A-471D-8774-9DAC5CB9869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B6AB-880E-4BC0-BE9D-007B9FCC90E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B358-8E93-4FD9-9823-A7FEC8C64B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9CDA-A67A-4CA6-9BE0-3A3F0370859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9016-5922-4A19-9219-5695A2E6F3E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DD61-07CD-416C-BAAB-C5BC40B0E6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B2C1-85AE-44A1-BCC6-32EE842E189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7902-24D5-482E-9830-7BFA631D674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ED89-CE54-4075-95F9-53066BE4C34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0BFF-1FC3-4FBF-A833-889BCA83465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24FC2-675A-45A9-8739-680A9E399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27ED3-44FF-41C5-98D0-60CE4044E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55907-4F1A-4813-AD31-75713ADD2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1077E-5E23-448A-87A2-06DE8BD5F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9CAC2-4E7D-427D-B564-32222D3ED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8368B-9AED-41DD-9181-99DC20871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E8311-F28F-45FE-94B0-AF3C99F74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C5F1B-F6C0-4BE4-8B0F-A3EF68C24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FE01D-25FD-45CE-AB1C-6D6359D62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AB36D-FD8F-45A4-ABC4-4AD441A1D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86E2D-C3C9-4571-945A-50C203A13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2722F-0CB0-41E3-8A66-C1EA19E85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CDA1A-84B2-4EC4-ACA8-4094EA5E3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F7BF6-D29E-402F-A7D3-BDBEE9613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B192E-35CB-4CFF-BF30-D0E558C67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B842B-D134-408A-AC12-5F26828E4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A0D75-B6A1-4129-90A9-78CAA80E7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440D3B-985C-4B05-B173-EFCEC27350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439B78-1C63-41F6-BFBD-4FCD15D5BF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D18FED-91C2-4BD6-992D-B4D61285EF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57B10-F77C-4FB6-8286-5E0D6AEA1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1D105-9102-4EC0-87B9-CB978092DD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D3956-E14B-48E1-915D-5E88747EE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31DCEC-ABAB-43F8-8713-8984B5D3E9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39A34-5E47-4173-BE80-C004978166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A6880-48C8-4E4F-AFF1-500CB73A11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3ED58-5436-477E-8D57-682098865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6A98D-2245-4DF2-B12D-F9ABCA436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D8E860-B0C0-4F10-A4B9-65D2FD91D4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51DA50-C0AB-43D3-9BC3-0DB171CCCA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0CC489-2E2A-47A1-B898-894AE1F3D3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A47346-EEAD-4873-A7AE-975BA89C18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0A7E71-9CEB-453E-8B51-7E7B4260C1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E0F15-4182-4A00-BA9F-2CA427D39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4E953-5F0E-4193-87D1-5F0781667C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FBE0FC-0443-447B-9313-F18963FDD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A347F2-4FC2-4AB9-897C-50C50EC4B6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C5F9C-52F2-457F-A16B-857DEEA28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0CE7C2-D248-4469-8348-28390969D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630409-37F6-4865-9454-5DBBC7F98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A8B637-A581-4107-BC21-80931E6E04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8D9702-29D2-491D-9308-A68E44EFC3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1F93FA-B2A9-4313-953A-CC42828A2A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F8051A-0F15-45CB-B928-56582B39E3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FFB40-F11A-406E-98BF-78266BC99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42A5F9-7FD1-49FB-AC68-524E6E28E8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60274C-9A3A-4056-BDE8-D2644454AE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3561DC-E2F7-4B6D-A2D6-73B97077D1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AA19FB-E3DF-4F48-8082-721D041EB1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F15AAD-5720-4449-924C-B395FCF3C6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080E4-22D0-472F-BDCB-CA0F3578E9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D93E2-88B8-45CF-B068-BAFBF54224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A5BCE4-9AB1-45F6-A118-59CF29197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EE15FD-5D3D-4450-9F79-7A9412129E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2D7FA1-EAE2-432F-9E9B-192F82D522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66D18-1C87-404A-B57A-F5FB969CE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20C5A0-2AB4-4126-A1D6-3AB5945F97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EE10CA-8C18-4D37-B3F8-3D88A6AA28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105C02-A541-4F3D-AC2F-31FDEE91DE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AAF60-0483-4158-9C3C-1961613825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70FA54-3CC7-40FB-B6A8-3288D07F4D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9B1E6D-59AA-4CD7-94A3-F56814040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ECA450-E0D4-4465-B705-431460EED1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A7421-1E41-4D94-BEDE-3B78F77B01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73D09-159E-4A4E-A493-BCA1B1A7B3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8732D2-8754-4135-B085-D7C71C8EDE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49D4A-8E76-4A6A-BCC8-4685BF261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938BC0-C909-4038-874F-0E0251566A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9A8DB4-F190-44DD-A763-A5D7B99B8B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026B60-77DB-4B8C-A997-E8946312D1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142EB6-D2EB-43B0-BDAA-7FB9FA21A0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63EFC1-8BC9-43FE-BD54-84FD6E97EA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810DE2-DB88-4FDD-8DC2-4907C1CA11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0381CA-66B6-4CA0-BF19-D312E886E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E72E0C-3E56-4F38-A872-4C16DDB78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DC631A-D94B-4D0E-9AD9-010B6E341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6A5D15-E08C-4AF4-B2E2-5E877B504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4F58C-2A8C-4135-90E0-A81C6CC4F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1E59B7-3638-4473-A13F-A79F1CC90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9CBB3-362E-423D-89E1-98E83497AC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830B43-172D-40DF-B388-5990DE98FE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C21B81-5A6A-4529-9891-CC9BC7C575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E1C3D2-A9A0-4B63-A040-98891E0F60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7B461-5CFF-4D8F-A9F6-BD5D10314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2323-8D89-4A1A-AC2A-C9E4434D5AA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C3ED-62C3-4D5F-A714-0EC6DDF69B8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04D4-01A5-4852-ACC1-6998F9273836}"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AA0C-8119-4C52-979A-C5FBFA2BFA0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0F2C-53E0-4821-A5BD-00770317F50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509C-68E4-4626-AEA6-2CF1F846C9B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A85E-AB5D-4060-9363-B5EDA5BD03D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PSC 203</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4" name="Picture 2" descr=""/>
          <p:cNvPicPr/>
          <p:nvPr/>
        </p:nvPicPr>
        <p:blipFill>
          <a:blip r:embed="rId1"/>
          <a:stretch/>
        </p:blipFill>
        <p:spPr>
          <a:xfrm>
            <a:off x="2314440" y="947880"/>
            <a:ext cx="4515120" cy="49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1</a:t>
            </a:r>
            <a:endParaRPr b="0" lang="en-US" sz="4000" spc="-1" strike="noStrike">
              <a:solidFill>
                <a:srgbClr val="c1eeff"/>
              </a:solidFill>
              <a:latin typeface="Consolas"/>
            </a:endParaRPr>
          </a:p>
        </p:txBody>
      </p:sp>
      <p:sp>
        <p:nvSpPr>
          <p:cNvPr id="40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7" name="Picture 2" descr="http://wiki.ucalgary.ca/images/0/0c/Problemstatement1.JPG"/>
          <p:cNvPicPr/>
          <p:nvPr/>
        </p:nvPicPr>
        <p:blipFill>
          <a:blip r:embed="rId1"/>
          <a:stretch/>
        </p:blipFill>
        <p:spPr>
          <a:xfrm>
            <a:off x="533520" y="2209680"/>
            <a:ext cx="819144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Picture 2" descr="http://wiki.ucalgary.ca/images/6/6f/Solution1.JPG"/>
          <p:cNvPicPr/>
          <p:nvPr/>
        </p:nvPicPr>
        <p:blipFill>
          <a:blip r:embed="rId1"/>
          <a:stretch/>
        </p:blipFill>
        <p:spPr>
          <a:xfrm>
            <a:off x="2362320" y="914400"/>
            <a:ext cx="5057640" cy="521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2</a:t>
            </a:r>
            <a:endParaRPr b="0" lang="en-US" sz="4000" spc="-1" strike="noStrike">
              <a:solidFill>
                <a:srgbClr val="c1eeff"/>
              </a:solidFill>
              <a:latin typeface="Consolas"/>
            </a:endParaRPr>
          </a:p>
        </p:txBody>
      </p:sp>
      <p:sp>
        <p:nvSpPr>
          <p:cNvPr id="412" name=""/>
          <p:cNvSpPr txBox="1"/>
          <p:nvPr/>
        </p:nvSpPr>
        <p:spPr>
          <a:xfrm>
            <a:off x="838080" y="1371600"/>
            <a:ext cx="7772400" cy="4572000"/>
          </a:xfrm>
          <a:prstGeom prst="rect">
            <a:avLst/>
          </a:prstGeom>
          <a:noFill/>
          <a:ln w="0">
            <a:noFill/>
          </a:ln>
        </p:spPr>
        <p:txBody>
          <a:bodyPr anchor="t">
            <a:normAutofit fontScale="88000"/>
          </a:bodyPr>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or this case study, the task is of constructing the design elements for a system that can be used to manage courses and classes for an organization that specializes in providing training. The name of the system is Courseware System. The organization offers courses in a variety of areas such as learning management techniques and understanding different software languages and technologies. Each course is made up of a set of topics. Tutors in the organization are assigned courses to teach according to the area that they specialize in and their availability. The organization publishes and maintains a calendar of the different courses and the assigns tutors every year.</a:t>
            </a:r>
            <a:endParaRPr b="0" lang="en-US" sz="2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is a group of course administrators in the organization who manage the courses including course content, assigning courses to tutors, and defining the course schedule. The training organization aims to use the Courseware System to get a better control and visibility to the course management and to also streamline the process of generating and managing schedules for different </a:t>
            </a:r>
            <a:r>
              <a:rPr b="0" lang="en-US" sz="1800" spc="-1" strike="noStrike">
                <a:solidFill>
                  <a:srgbClr val="ffffff"/>
                </a:solidFill>
                <a:latin typeface="Corbel"/>
              </a:rPr>
              <a:t>courses</a:t>
            </a:r>
            <a:r>
              <a:rPr b="0" lang="en-US" sz="1600" spc="-1" strike="noStrike">
                <a:solidFill>
                  <a:srgbClr val="ffffff"/>
                </a:solidFill>
                <a:latin typeface="Corbel"/>
              </a:rPr>
              <a:t>.</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5" name="Picture 2" descr=""/>
          <p:cNvPicPr/>
          <p:nvPr/>
        </p:nvPicPr>
        <p:blipFill>
          <a:blip r:embed="rId1"/>
          <a:stretch/>
        </p:blipFill>
        <p:spPr>
          <a:xfrm>
            <a:off x="914400" y="533520"/>
            <a:ext cx="7743960" cy="578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3</a:t>
            </a:r>
            <a:endParaRPr b="0" lang="en-US" sz="4000" spc="-1" strike="noStrike">
              <a:solidFill>
                <a:srgbClr val="c1eeff"/>
              </a:solidFill>
              <a:latin typeface="Consolas"/>
            </a:endParaRPr>
          </a:p>
        </p:txBody>
      </p:sp>
      <p:sp>
        <p:nvSpPr>
          <p:cNvPr id="41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8" name="Picture 2" descr="http://wiki.ucalgary.ca/images/0/0f/Problemstatement2.JPG"/>
          <p:cNvPicPr/>
          <p:nvPr/>
        </p:nvPicPr>
        <p:blipFill>
          <a:blip r:embed="rId1"/>
          <a:stretch/>
        </p:blipFill>
        <p:spPr>
          <a:xfrm>
            <a:off x="439560" y="1600200"/>
            <a:ext cx="855216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iagram</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description of a system’s behavior as it responds to a request that originates from outside of that system.</a:t>
            </a:r>
            <a:endParaRPr b="0" lang="en-US" sz="3000" spc="-1" strike="noStrike">
              <a:solidFill>
                <a:srgbClr val="ffffff"/>
              </a:solidFill>
              <a:latin typeface="Corbel"/>
            </a:endParaRPr>
          </a:p>
        </p:txBody>
      </p:sp>
      <p:sp>
        <p:nvSpPr>
          <p:cNvPr id="379" name="TextBox 3"/>
          <p:cNvSpPr/>
          <p:nvPr/>
        </p:nvSpPr>
        <p:spPr>
          <a:xfrm>
            <a:off x="3048120" y="419112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pecifies the “What” not the “H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
          <p:cNvPicPr/>
          <p:nvPr/>
        </p:nvPicPr>
        <p:blipFill>
          <a:blip r:embed="rId1"/>
          <a:stretch/>
        </p:blipFill>
        <p:spPr>
          <a:xfrm>
            <a:off x="835200" y="835200"/>
            <a:ext cx="786420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ctors</a:t>
            </a:r>
            <a:br>
              <a:rPr sz="4000"/>
            </a:b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xternal to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act with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external entities</a:t>
            </a:r>
            <a:endParaRPr b="0" lang="en-US" sz="3000" spc="-1" strike="noStrike">
              <a:solidFill>
                <a:srgbClr val="ffffff"/>
              </a:solidFill>
              <a:latin typeface="Corbel"/>
            </a:endParaRPr>
          </a:p>
        </p:txBody>
      </p:sp>
      <p:pic>
        <p:nvPicPr>
          <p:cNvPr id="383" name="Picture 3" descr=""/>
          <p:cNvPicPr/>
          <p:nvPr/>
        </p:nvPicPr>
        <p:blipFill>
          <a:blip r:embed="rId1"/>
          <a:stretch/>
        </p:blipFill>
        <p:spPr>
          <a:xfrm>
            <a:off x="7620120" y="457200"/>
            <a:ext cx="1123920" cy="1463760"/>
          </a:xfrm>
          <a:prstGeom prst="rect">
            <a:avLst/>
          </a:prstGeom>
          <a:ln w="0">
            <a:noFill/>
          </a:ln>
        </p:spPr>
      </p:pic>
      <p:pic>
        <p:nvPicPr>
          <p:cNvPr id="384" name="Picture 4" descr=""/>
          <p:cNvPicPr/>
          <p:nvPr/>
        </p:nvPicPr>
        <p:blipFill>
          <a:blip r:embed="rId2"/>
          <a:stretch/>
        </p:blipFill>
        <p:spPr>
          <a:xfrm>
            <a:off x="1066680" y="4343400"/>
            <a:ext cx="1379520" cy="1371600"/>
          </a:xfrm>
          <a:prstGeom prst="rect">
            <a:avLst/>
          </a:prstGeom>
          <a:ln w="0">
            <a:noFill/>
          </a:ln>
        </p:spPr>
      </p:pic>
      <p:pic>
        <p:nvPicPr>
          <p:cNvPr id="385" name="Picture 5" descr=""/>
          <p:cNvPicPr/>
          <p:nvPr/>
        </p:nvPicPr>
        <p:blipFill>
          <a:blip r:embed="rId3"/>
          <a:stretch/>
        </p:blipFill>
        <p:spPr>
          <a:xfrm>
            <a:off x="2895480" y="4114800"/>
            <a:ext cx="1143000" cy="1685880"/>
          </a:xfrm>
          <a:prstGeom prst="rect">
            <a:avLst/>
          </a:prstGeom>
          <a:ln w="0">
            <a:noFill/>
          </a:ln>
        </p:spPr>
      </p:pic>
      <p:pic>
        <p:nvPicPr>
          <p:cNvPr id="386" name="Picture 6" descr=""/>
          <p:cNvPicPr/>
          <p:nvPr/>
        </p:nvPicPr>
        <p:blipFill>
          <a:blip r:embed="rId4"/>
          <a:stretch/>
        </p:blipFill>
        <p:spPr>
          <a:xfrm>
            <a:off x="4495680" y="4191120"/>
            <a:ext cx="1400400" cy="1600200"/>
          </a:xfrm>
          <a:prstGeom prst="rect">
            <a:avLst/>
          </a:prstGeom>
          <a:ln w="0">
            <a:noFill/>
          </a:ln>
        </p:spPr>
      </p:pic>
      <p:pic>
        <p:nvPicPr>
          <p:cNvPr id="387" name="Picture 7" descr="server.jpg"/>
          <p:cNvPicPr/>
          <p:nvPr/>
        </p:nvPicPr>
        <p:blipFill>
          <a:blip r:embed="rId5"/>
          <a:stretch/>
        </p:blipFill>
        <p:spPr>
          <a:xfrm>
            <a:off x="6400800" y="4038480"/>
            <a:ext cx="692280" cy="170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ervices the system can perfor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unctionalit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n describe a sequence of ac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p-level servi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0" name="Picture 3" descr=""/>
          <p:cNvPicPr/>
          <p:nvPr/>
        </p:nvPicPr>
        <p:blipFill>
          <a:blip r:embed="rId1"/>
          <a:srcRect l="3901" t="6394" r="3429" b="0"/>
          <a:stretch/>
        </p:blipFill>
        <p:spPr>
          <a:xfrm>
            <a:off x="3352680" y="4495680"/>
            <a:ext cx="2057400" cy="111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ssociations</a:t>
            </a:r>
            <a:endParaRPr b="0" lang="en-US" sz="40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es that represent relationships between actors and use cas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5" name="Picture 2" descr=""/>
          <p:cNvPicPr/>
          <p:nvPr/>
        </p:nvPicPr>
        <p:blipFill>
          <a:blip r:embed="rId1"/>
          <a:srcRect l="0" t="0" r="0" b="58097"/>
          <a:stretch/>
        </p:blipFill>
        <p:spPr>
          <a:xfrm>
            <a:off x="1600200" y="1219320"/>
            <a:ext cx="61707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8" name="Picture 2" descr=""/>
          <p:cNvPicPr/>
          <p:nvPr/>
        </p:nvPicPr>
        <p:blipFill>
          <a:blip r:embed="rId1"/>
          <a:stretch/>
        </p:blipFill>
        <p:spPr>
          <a:xfrm>
            <a:off x="1623960" y="1590840"/>
            <a:ext cx="5896080" cy="367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1" name="Picture 2" descr=""/>
          <p:cNvPicPr/>
          <p:nvPr/>
        </p:nvPicPr>
        <p:blipFill>
          <a:blip r:embed="rId1"/>
          <a:stretch/>
        </p:blipFill>
        <p:spPr>
          <a:xfrm>
            <a:off x="914400" y="1143000"/>
            <a:ext cx="796932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21:41:11Z</dcterms:created>
  <dc:creator>mshouman</dc:creator>
  <dc:description/>
  <dc:language>en-US</dc:language>
  <cp:lastModifiedBy>mshouman</cp:lastModifiedBy>
  <dcterms:modified xsi:type="dcterms:W3CDTF">2009-03-30T19:41:41Z</dcterms:modified>
  <cp:revision>23</cp:revision>
  <dc:subject/>
  <dc:title>UML Use Cases</dc:title>
</cp:coreProperties>
</file>